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E05B-A429-43CA-8360-43A56C6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2C9F-73D7-440D-ABD9-C5C10101B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60FD7C-82E6-42E9-8D20-452642B4D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E2E251-34DB-4115-A797-7A8FA1C12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904714-8DF8-4E24-91C0-80707B75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D4C9C-9B0A-4621-A824-7FB8D175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F91887-E105-423D-82AB-76E6E52D1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BA7BF-4400-46F9-A1E4-A962A21FE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6CF68-AF04-4878-AD0E-D00D7E6F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6464F-1EF3-4B5A-A269-D5E3D566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BE0E2-189B-4BC7-A996-7434026B7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B15CAE-C745-47E9-9F6A-04DB73F98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1B72-38F5-461B-9F47-B1B5394D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29A804-3E2F-4E12-82D8-171D2DAA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DF121-60FD-4CB0-A0F9-6B56DE53C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3A4CC-64E4-4EE9-942A-7B0C4805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5BC821-DEAE-45FD-A169-C56EEEB3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6E3E5F-44D3-460E-A2FA-9A639F689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0EB1F-25D1-4AA0-8274-DB9D2F8C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E008C8-22FA-4CF5-8BF3-EA6BACDF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285437-E561-4A7E-BDC4-89C2153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30904F-AEB9-42A5-80E9-A02BC2FA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F5B2A-62EC-433B-8170-E3D53C827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0E1-F153-4B7A-9DA9-53C60E78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038C82-3D10-4799-8DE9-80199A639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36F91F-6310-4321-A00A-725F7CEB1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906C61-1EB6-41B0-9AA5-834571247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31393-310A-417E-8622-17E774683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CFB6A-F6B5-46AF-AAA1-AC773CE0B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E11C0A-A81C-427D-A019-57FB0B51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9BBCC-A0F9-419F-A7B1-2A086070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6B8C5-B230-4744-BBA8-A135DA43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CA77E-19F5-46EB-908D-12A54E717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320F14-19BA-4AA8-89B6-7B8FCB3E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8C3C-0BD2-4611-A6D3-C265F3FFA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342CE-C6F2-41BF-A6BA-F0A84AC4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538D3-9EEB-4BBC-9F26-6CDFBF53C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E7010-F31D-4C5D-9DF4-1BC4FCE0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007A8D-B7FA-4BBE-B02C-58F81CF61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78A40-C77A-4D36-AF4F-0B907BB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275F0B-9FFF-4F0F-8470-F30731A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9352A-AC54-4BF2-8161-9F061E03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7DA2E-5BE3-4FC7-BB78-0199A38E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2885BC-BA4B-4009-AE71-5C8217A68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88F3A3-2B67-4E07-84FC-4706B3E1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2960-16DA-4F39-9268-D75941D0F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930DB-8D70-4FB2-BD58-D7D4BBAD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DCC33C-5AEC-49D3-BE86-39D5828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630DFE-DA3E-4120-BD33-BD26E963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A819D-C3E4-4CBD-B520-BD23BB46A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AD25A6-5FA5-4FF1-9FB9-F1591D9F1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E2ABDF-8492-47CE-B9E4-DB39BADBB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3D309C-B805-4469-B5DC-F6ECEA69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72B49-00FC-4008-8898-C171B23F5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722774-3E07-4BA9-A1AE-39DF0E00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96B6B-85A8-4562-82A0-A9BEC4BC2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23E4-ACA3-4174-9B6A-499C217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BD2277-D7E0-477C-BA97-995D261F9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B32D87-B04A-4A40-843B-A2821045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2BE550-7FC7-43A2-897E-04782630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D81D1-1E46-4240-88E9-6A68A112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FD46EE-33E4-4DAB-849B-BE92F55E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D9227-3A9D-49A0-9DB4-1D4E3420A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B458F2-6552-4212-A244-D84834F1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94CC01-7A10-41FC-9AE3-6E6D65FBE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FAF50-0DD9-44BA-B5AC-8814716C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CD44B-C02A-4270-81C0-C96BD8339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2DA7-A5EF-44E1-BF1A-C30D57EB2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2D36F6-861A-4D4D-9E64-7B520225A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15DEC4-4463-454C-8F48-DD89C7E53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5BAFFF-5F28-4389-B82D-D24D6374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9DF0B4-860F-49E0-94CB-FBD0D81F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3B1B88-BF1C-4031-AB3C-DCD3FAEB8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AC181-E6F9-4ED2-A85F-19AC35B2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929BF9-4CE8-4E2B-87B6-A16D2CE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30811B-B8C8-48A0-AF5E-1E380071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1B69C-B034-49C8-B7F3-E74759FDA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EB9A69-7F15-474D-890E-1FCA45722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EB70-B29E-4938-A782-6D2546AC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EB3B42-1461-464B-A9B1-78549C06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D79B8-2F17-4D73-B4D9-C0DB5578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C5EABC-22D2-4ADD-8DF5-C09D8F5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93FE9-76BC-40DF-B254-54D2BBDD5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C28A94-1529-4729-8FB0-243D44041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E132B2-14D2-4B45-98EE-61A89E1F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912FD-E125-4E8D-8D9B-1F7452A4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5D8CFC-FD48-48A2-AA17-1516FBED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DC00DF-866E-48AC-9536-EFA946AD6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26B43C-1608-4DA5-9DA9-E383FF877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F77B-927A-48D9-B74C-3BE81BF0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EC2DB-9154-46E9-BF69-78976FB9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C48B19-53F2-42CD-B997-60700027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C75BB6-068C-4ECE-8830-452E116FF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525CBF-AC39-4626-8505-BD5040F7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2AC90-FB12-45FB-B271-81466446E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A91F73-292A-4879-8FEB-A95734959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16716-34D5-44B7-9395-327D3A73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B4441-91CF-4A0A-A6E4-27EC6405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2E06EE-862C-4BFA-ABA2-8A810312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723CDC-C412-4794-B417-3A0A60F4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FAD3-B5B3-443C-9183-A1633FEA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45DDF5-8C93-48C2-AA3C-2F62E2EF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96707-D444-4F53-9C82-5AC16D662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00A23-3A81-4C6C-83F0-7793244F5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6744C-AD6C-4513-81EB-268CE46C3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BCF00-3768-4C90-A420-DA74BB5F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2CEBB5-A02D-4D1D-B5EC-3907FF2F4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CB320-2738-404A-AAFB-D1A6A191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2912B6-DF96-415D-9FAE-9DC02BB3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25D841-046F-4F2A-B208-1EF6182C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63FB02-CE84-40F8-B3F3-FDA10CE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EE2A-40C2-4003-A4BC-80421930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742E-7BF7-4345-AE47-1F7D91C4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B02FD-CE99-44BD-9004-B9B17239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D34818-A09E-4A8D-9FA8-5D39360E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C78A5E-059A-481E-80F4-3EC98FD8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41C924-CA78-4F0A-970B-F7CEF5A9E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5669F7-E854-4F0D-9036-889B119C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EC7088-A66B-43EC-B18C-E28081BC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F9EF4C-81A8-46BF-9E10-1C327CE4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5F9961-767B-46E5-B2C0-2FCB731D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6F7366-391E-43A0-93AF-886D4B28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91D688-F4E1-4DAD-A5CE-6791B57C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36D3-9488-46A5-A478-14F5D651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3279FD-E185-41E2-87CD-22957850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BC61D6-7DD1-44AA-99EA-07995D4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DB9BD3-480E-4B6A-9D66-358B9843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7C51BE-FB26-45DE-A2E7-F4CB32E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EA555-002D-43B4-8A33-7E6DA5FD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9A9706-9FC5-420B-88A5-35B03AF1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C56E05-17E8-4C24-AD07-FA5A4B68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1255CE-1184-4DBB-BD10-D198B5AE6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CB392D-602A-4479-9F00-6D00D49E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71EF91-1218-4666-980D-4BE9D982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621BF-0950-4E12-9526-1353122A7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5564CB-BB84-49E1-BB0C-E712F64C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9D3068-BDDE-4426-B28A-B99CE66C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1214A5-C2EB-4759-9EF2-0081D134E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75DCDC-2FF7-4915-B1F1-7BDB8E27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D24187-3358-498C-86C2-B235D8E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4B811-AB11-49C3-9C6A-7CD0822E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8C77AE-5F6D-4416-B074-AA1C59F8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881828-E32A-4682-BF11-5D5B1473A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C045E-1C71-4964-BC12-52FFCD675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758DC-4832-406D-9FA8-A7F680A40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C31B7-B0A5-4877-9E83-D9D5E28A9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C54569-5229-48B0-94F9-C9F1773B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DC453C-3CEF-4B33-A59F-71466A35D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6A7717-ADAB-47BD-8BC6-E6D2C2798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3E280C-1B53-495B-8529-2DA385EA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150A2B-178C-4F0C-AAF7-9EA5EB5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B94D8C-C3E4-441E-B72C-879C2F49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14AAC3-F438-4DC2-8974-4B4D50EB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22BA65-9CDF-4C72-B1E5-A9DA8814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70D7E8-E896-4BFA-96B6-EB49894A2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4DBC95-6DCB-4C0D-AA00-D170C43C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255F3-4618-4BCF-B615-1072359A7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1942D-B9AE-46E0-B3CE-3C837B810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3CB67-B5E4-416F-9BC7-5A5E7037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B2A7B1-7BC6-44C1-B001-2C1EA4017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EC679-1FEF-4304-9A70-BEC6A8350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A269C9-01C6-4D55-B252-0C94B7B2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F319F0-D1D0-4AD2-BB4B-EE6438559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ED659B-CCA7-4A92-B8AB-312E5511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B21E0F-DF55-411A-AE65-E5F3290A9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4AE9E4-176D-451E-A59B-6AE94B9E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0E310-3BD5-4DAE-A562-EE58880BD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928A23-672D-4A3C-8235-88DE937C5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203310-F073-4173-903A-06F899F4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9B799D-8356-42F9-831F-37AD3C149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DF2175-9F04-475D-A3A0-B5D5249B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CBB59-0032-422D-A398-F63E5171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5D836-0F13-42AD-89EC-C658E843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9E21-B472-45CE-9D8C-63B835F3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8650A-AA48-4CB7-963E-F7B939DC2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8A40-E028-46CB-A8DC-1959E37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123A3-0C28-42DA-878B-D0D21E1C5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C8F12-57AC-48F2-9501-FBF85568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33C24-367C-43F1-9310-BF640084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6B426-49DC-4152-B2CA-050352F3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29BA-F6F3-4CCC-9BBD-85A80D522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36DA6-7E48-4730-B308-845841D0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0CFB3-0328-4A11-9B92-03E9353BD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0D80B-54C2-45B8-94A9-F3EE0514F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968D0-CE8D-45F0-ACEF-DF8BE511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E3E14-8B4B-4A82-9559-FF1D1600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246-135F-418C-9E9A-753CA91B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A3A83-93D4-4B7C-A689-7C2CC877F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C6F6-B814-4796-A538-FE75C2F0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18D9-4570-4ED5-BFAE-6B4737A8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8C909-26D9-40F3-A820-636599BC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7EE91-F822-4508-BB81-EA00240C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84BB3-5870-4D03-8BD6-8E242F32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A5A62-3EB8-4C51-8E99-FC4E27B14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6D2F5-448C-4EBC-9056-7421C57D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C8E2C-4AD5-4A04-A509-270ACA94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415B6-9C4A-4857-B77F-3FEAA2BF2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CEEC-7ACB-46C0-81AA-A9D67CC8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DBC3E-7B0A-4F82-9B1F-2E61586E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FDD68E-49E1-4C60-B1A3-39A6B1B5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4D103-3F5D-48AE-8482-7923AC8F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5E49D-5D9A-48BF-A47D-7543CB3E0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AB44B8-F2D1-40FC-B14D-B9F03C888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1D2595-36A7-46EE-B963-9C8677D1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F7C54-BA3F-46BB-B645-06872A2E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A460D-B246-4781-A041-BC8DE812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1537F-716C-4F16-A7F6-A1CDC7B6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2E924-89F5-42D9-93A0-F45965D16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E2F4-7360-431A-B2BB-3ADBEE4F2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2117E-A03B-456B-B1C0-BD41C5606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D656C5-C355-4E42-8AF6-E270515F2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98649-32C6-44AF-B3B2-1D99FD77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5C84-6AAC-45DA-B274-97F9B32D3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08CA4-DEDC-4500-90BC-9572E9BF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25078-0E65-4AD6-903F-C17D4B90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A668C-E2DC-41D2-8319-84EF55B5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CB60B-A29B-47A5-9E22-CFAEF125E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30478-BEE6-4343-9F91-0B15B364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870F7-560C-4546-9570-2D2F86759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88A0-6019-4F33-B319-1EA4C866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B545E2-027B-4AF3-B2DE-68709714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344D8-3F5D-4479-968F-E94CC86B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1500E-3971-4064-A4E4-45D4262A8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547B1-DF10-4931-B2F4-62D6EB935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93983-89EC-46C1-9681-947011F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B9E8B-F8CA-4FB1-A1A7-F2A226543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371F29-38E9-4F46-B489-2E6AB4B0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DCFEF-0E7F-4EEC-933F-E122D580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1E58E-6B63-42BF-85CB-346BDC8A6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1366C8-BB96-4CCD-8CBA-3D46E7FA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625A-31A4-42CA-B3C7-FE476CEE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D6CB9-AB2B-457C-9743-35F11210F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0CB30B-5B19-4B3D-9EB0-9D27703C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A41F49-5126-4760-9325-3CF4ADE25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8E9A8-97E7-4401-AD13-FDBE1FE55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12F1A-E069-40D2-9C9E-8392B578B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62E8E-2531-465A-A1C0-8722942E6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FAE6DA-38A6-41F2-8B0A-4FC319FD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895F8-036D-4D6D-934D-C689BED65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5DCA6-5EE0-42DE-9080-88F3918D3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B57B97-0C4A-461D-B700-37BE5BD4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C717-882A-45C7-BAA9-29C1D09E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D98ED-1797-47EE-AD6D-49FE2878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E387E0-29BF-403A-BC01-59E053E2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B4E8E-512E-42C0-AFC1-BF19A6BE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6802B-6E5F-40AA-8AE6-03089729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259E4-2061-4554-9C90-9C81E81A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B223D-5826-4A6D-B0A7-D8096C91E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82B39C-2B09-4DF4-98F8-3CAF8E28D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0ECC5C-27E6-45DF-8F95-6EF3DC20E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C0EF9-0F64-4FEC-B76A-E5D79820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ED0ED4-B4E7-4912-BD14-486086CE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3A6D-720E-436C-9365-EAA0D03975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6BBD-D13F-40DA-A0BA-F29E0FE27B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E3A3-8B5D-4C5A-AC1D-631E00327D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1FB3-3E8A-479A-9E55-F1926F5FAE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947-69E8-4C31-A824-763346A194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91DC6-4455-430B-9D43-2C345BEDA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46F5-DDFD-4A66-AB3B-066C045E81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EC128-8FD6-4924-BEA2-A726CAB34F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A56E4-F829-4056-A43D-45AE22AE51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7E03-431B-4412-BD34-9713030FCF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86AD1-BAC7-48BA-A25F-5C669B0414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6ACE-F70A-40E0-ADB0-2BF1AE797D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2F04-8BFB-4919-8A54-B9699E62F9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2A35-029B-434D-96F1-3B2638104F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9EC07-FCC7-40E4-8266-F1C0BF0AB4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CF2B-0C44-4D80-9B3C-90BFDC72D6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2EBC4-E4DE-49C9-84F8-A97BA61AF9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81423-5421-4BBE-95DB-EFDAFCDB0A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9D17-5195-466F-893B-9206F86E20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40D55-A6FC-478D-BDFF-E6CB921CD7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301DA-65CF-4402-8215-FB7CEC7A3C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10563-62D9-48A4-8E0D-70DEFFCCB4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E1B37-5E57-427B-959E-0A3D145D10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C8217-A46B-488E-BA15-C74AECB1CE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DDED-3111-448A-8998-4E74932422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EFF4-3F37-40B3-B4DF-8DDE08CF42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FB9A0-BD67-4D0E-A045-C0CA3DFDED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FF60-07D0-462C-87F3-46E3DF8378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7726-511F-41D9-BE96-9332C206B40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3E215-EC56-41EC-AE40-DDC759A6C1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B2DDF-680E-408B-9DF5-27E096476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9A145-9741-4432-AACF-F7885031F4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26AD-4F91-4514-8BAF-A51933816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896C-BA00-4B69-BD7C-F9CE7B95CE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DAAE-2620-4A3F-8C5A-7049122689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A6C0-B34C-4EC4-AA0B-FC54E3EFF5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4ABC-DFF6-4E87-8FE6-51BC46E63A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6E97-7A0B-4D38-936A-AE5782759D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138D-206C-424E-8142-4AA4330C3C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910B-9F14-45B3-82A3-D98908C3F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743040" y="3076560"/>
            <a:ext cx="76579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5" name="图片 69633" descr=""/>
          <p:cNvPicPr/>
          <p:nvPr/>
        </p:nvPicPr>
        <p:blipFill>
          <a:blip r:embed="rId1"/>
          <a:stretch/>
        </p:blipFill>
        <p:spPr>
          <a:xfrm>
            <a:off x="361800" y="882720"/>
            <a:ext cx="8420400" cy="571500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2"/>
          <a:stretch/>
        </p:blipFill>
        <p:spPr>
          <a:xfrm>
            <a:off x="3649680" y="3471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3"/>
          <a:stretch/>
        </p:blipFill>
        <p:spPr>
          <a:xfrm>
            <a:off x="900000" y="420696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4"/>
          <a:stretch/>
        </p:blipFill>
        <p:spPr>
          <a:xfrm>
            <a:off x="2022480" y="42498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5"/>
          <a:stretch/>
        </p:blipFill>
        <p:spPr>
          <a:xfrm>
            <a:off x="2871720" y="42354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6"/>
          <a:stretch/>
        </p:blipFill>
        <p:spPr>
          <a:xfrm>
            <a:off x="3751200" y="50562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7"/>
          <a:stretch/>
        </p:blipFill>
        <p:spPr>
          <a:xfrm>
            <a:off x="7970760" y="3457440"/>
            <a:ext cx="505080" cy="4334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8"/>
          <a:stretch/>
        </p:blipFill>
        <p:spPr>
          <a:xfrm>
            <a:off x="4859280" y="420696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9"/>
          <a:stretch/>
        </p:blipFill>
        <p:spPr>
          <a:xfrm>
            <a:off x="8042400" y="50706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0"/>
          <a:stretch/>
        </p:blipFill>
        <p:spPr>
          <a:xfrm>
            <a:off x="7164360" y="507060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1"/>
          <a:stretch/>
        </p:blipFill>
        <p:spPr>
          <a:xfrm>
            <a:off x="6315120" y="5070600"/>
            <a:ext cx="50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6" name="图片 68609" descr=""/>
          <p:cNvPicPr/>
          <p:nvPr/>
        </p:nvPicPr>
        <p:blipFill>
          <a:blip r:embed="rId1"/>
          <a:stretch/>
        </p:blipFill>
        <p:spPr>
          <a:xfrm>
            <a:off x="1085760" y="1125360"/>
            <a:ext cx="6972480" cy="2162520"/>
          </a:xfrm>
          <a:prstGeom prst="rect">
            <a:avLst/>
          </a:prstGeom>
          <a:ln w="0">
            <a:noFill/>
          </a:ln>
        </p:spPr>
      </p:pic>
      <p:pic>
        <p:nvPicPr>
          <p:cNvPr id="977" name="图片 68610" descr=""/>
          <p:cNvPicPr/>
          <p:nvPr/>
        </p:nvPicPr>
        <p:blipFill>
          <a:blip r:embed="rId2"/>
          <a:stretch/>
        </p:blipFill>
        <p:spPr>
          <a:xfrm>
            <a:off x="361800" y="3354480"/>
            <a:ext cx="8420400" cy="2162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" descr=""/>
          <p:cNvPicPr/>
          <p:nvPr/>
        </p:nvPicPr>
        <p:blipFill>
          <a:blip r:embed="rId3"/>
          <a:stretch/>
        </p:blipFill>
        <p:spPr>
          <a:xfrm>
            <a:off x="4384800" y="158580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4"/>
          <a:stretch/>
        </p:blipFill>
        <p:spPr>
          <a:xfrm>
            <a:off x="4356000" y="234936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5"/>
          <a:stretch/>
        </p:blipFill>
        <p:spPr>
          <a:xfrm>
            <a:off x="7380360" y="158580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6"/>
          <a:stretch/>
        </p:blipFill>
        <p:spPr>
          <a:xfrm>
            <a:off x="7164360" y="234936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7"/>
          <a:stretch/>
        </p:blipFill>
        <p:spPr>
          <a:xfrm>
            <a:off x="1835280" y="378936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8"/>
          <a:stretch/>
        </p:blipFill>
        <p:spPr>
          <a:xfrm>
            <a:off x="1835280" y="458136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9"/>
          <a:stretch/>
        </p:blipFill>
        <p:spPr>
          <a:xfrm>
            <a:off x="5003640" y="386064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10"/>
          <a:stretch/>
        </p:blipFill>
        <p:spPr>
          <a:xfrm>
            <a:off x="4975200" y="465300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11"/>
          <a:stretch/>
        </p:blipFill>
        <p:spPr>
          <a:xfrm>
            <a:off x="7956720" y="3789360"/>
            <a:ext cx="863280" cy="43344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12"/>
          <a:stretch/>
        </p:blipFill>
        <p:spPr>
          <a:xfrm>
            <a:off x="7956720" y="4581360"/>
            <a:ext cx="8632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10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9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81160" y="843120"/>
            <a:ext cx="8581680" cy="561024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2556000" y="350028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5392800" y="353052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8172360" y="351468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2556000" y="517212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5392800" y="520236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8172360" y="5186520"/>
            <a:ext cx="43200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图片 59410" descr=""/>
          <p:cNvPicPr/>
          <p:nvPr/>
        </p:nvPicPr>
        <p:blipFill>
          <a:blip r:embed="rId1"/>
          <a:stretch/>
        </p:blipFill>
        <p:spPr>
          <a:xfrm>
            <a:off x="490680" y="1380960"/>
            <a:ext cx="8162640" cy="40960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2"/>
          <a:stretch/>
        </p:blipFill>
        <p:spPr>
          <a:xfrm>
            <a:off x="2411280" y="4854600"/>
            <a:ext cx="93672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3"/>
          <a:stretch/>
        </p:blipFill>
        <p:spPr>
          <a:xfrm>
            <a:off x="4500720" y="2565360"/>
            <a:ext cx="381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804960" y="1871640"/>
            <a:ext cx="7534080" cy="31147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2008080" y="4351320"/>
            <a:ext cx="1081080" cy="433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4211640" y="2060640"/>
            <a:ext cx="3600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图片 57352" descr=""/>
          <p:cNvPicPr/>
          <p:nvPr/>
        </p:nvPicPr>
        <p:blipFill>
          <a:blip r:embed="rId1"/>
          <a:stretch/>
        </p:blipFill>
        <p:spPr>
          <a:xfrm>
            <a:off x="523800" y="1509840"/>
            <a:ext cx="8096400" cy="3838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2"/>
          <a:stretch/>
        </p:blipFill>
        <p:spPr>
          <a:xfrm>
            <a:off x="1476360" y="3386160"/>
            <a:ext cx="2735280" cy="227484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3"/>
          <a:stretch/>
        </p:blipFill>
        <p:spPr>
          <a:xfrm>
            <a:off x="2771640" y="2521080"/>
            <a:ext cx="1986120" cy="4330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4"/>
          <a:stretch/>
        </p:blipFill>
        <p:spPr>
          <a:xfrm>
            <a:off x="5234040" y="3386160"/>
            <a:ext cx="2735280" cy="2274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5"/>
          <a:stretch/>
        </p:blipFill>
        <p:spPr>
          <a:xfrm>
            <a:off x="6529320" y="2521080"/>
            <a:ext cx="198612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790560" y="1971720"/>
            <a:ext cx="7562880" cy="29145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042920" y="2852640"/>
            <a:ext cx="2735280" cy="2274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2338560" y="1987560"/>
            <a:ext cx="1985760" cy="43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4859280" y="2881440"/>
            <a:ext cx="2735280" cy="2274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6154560" y="2016000"/>
            <a:ext cx="1986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571680" y="857160"/>
            <a:ext cx="8001000" cy="56674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1906560" y="299736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1476360" y="1916280"/>
            <a:ext cx="574560" cy="4330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2916360" y="1916280"/>
            <a:ext cx="574560" cy="433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6286680" y="299736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5856120" y="1916280"/>
            <a:ext cx="574920" cy="4330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7296120" y="1916280"/>
            <a:ext cx="574560" cy="4330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8"/>
          <a:stretch/>
        </p:blipFill>
        <p:spPr>
          <a:xfrm>
            <a:off x="1908000" y="5519880"/>
            <a:ext cx="1729080" cy="12952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9"/>
          <a:stretch/>
        </p:blipFill>
        <p:spPr>
          <a:xfrm>
            <a:off x="1477800" y="4495680"/>
            <a:ext cx="574920" cy="433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10"/>
          <a:stretch/>
        </p:blipFill>
        <p:spPr>
          <a:xfrm>
            <a:off x="2917800" y="4495680"/>
            <a:ext cx="574560" cy="433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1"/>
          <a:stretch/>
        </p:blipFill>
        <p:spPr>
          <a:xfrm>
            <a:off x="6300720" y="5519880"/>
            <a:ext cx="1728720" cy="12952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2"/>
          <a:stretch/>
        </p:blipFill>
        <p:spPr>
          <a:xfrm>
            <a:off x="5870520" y="4481640"/>
            <a:ext cx="574560" cy="43344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3"/>
          <a:stretch/>
        </p:blipFill>
        <p:spPr>
          <a:xfrm>
            <a:off x="7310520" y="4481640"/>
            <a:ext cx="5745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4276" descr=""/>
          <p:cNvPicPr/>
          <p:nvPr/>
        </p:nvPicPr>
        <p:blipFill>
          <a:blip r:embed="rId1"/>
          <a:stretch/>
        </p:blipFill>
        <p:spPr>
          <a:xfrm>
            <a:off x="700200" y="2333520"/>
            <a:ext cx="7743600" cy="21909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5537160" y="278136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5565600" y="3270240"/>
            <a:ext cx="446400" cy="433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4140360" y="3716280"/>
            <a:ext cx="3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52231" descr=""/>
          <p:cNvPicPr/>
          <p:nvPr/>
        </p:nvPicPr>
        <p:blipFill>
          <a:blip r:embed="rId1"/>
          <a:stretch/>
        </p:blipFill>
        <p:spPr>
          <a:xfrm>
            <a:off x="428760" y="704880"/>
            <a:ext cx="8286480" cy="54482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2"/>
          <a:stretch/>
        </p:blipFill>
        <p:spPr>
          <a:xfrm>
            <a:off x="971640" y="4869000"/>
            <a:ext cx="6769080" cy="4330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7690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2:25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